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85AC3-66F3-4F99-B801-83E8799EE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47556-2161-4081-A875-0B757EE17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989E-1A2F-44E3-A488-0CCCE916B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02F0-3564-4C69-8EDD-32A31754E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249E-FB75-428B-AF64-0C3AD2270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8BDF-ABAF-4532-BA98-0C2250833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127C-246A-473D-8D37-B7F55B98F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19D7-6056-498C-9934-2A77B0624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ECCD-5DAB-4898-A7BD-EB028AD03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1324-8BAF-4233-AC90-9CB204F8C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2CAC-E648-4129-98E0-9C20B14E0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85F2-F92C-4F1F-A517-ABFE6F16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85FD-B584-4482-9822-AE5EE4F8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79B4-93E3-4FDF-A524-646B87A1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F052C-822F-4235-ADBD-E1B8F5649D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057400" y="6094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ysha Tur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Aysha Tur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Aysha Turan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Aysha Turan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Aysha Tur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0" y="3505320"/>
            <a:ext cx="21337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, me llamo Aysha </a:t>
            </a: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Yo vivo en Astoria. Yo tengo años catorce. Yo tengo dos hermanos y también uno hermana. Yo estoy calmado y feliz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28520" y="4492800"/>
            <a:ext cx="657360" cy="944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17560" y="4565520"/>
            <a:ext cx="554040" cy="79848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28520" y="5559480"/>
            <a:ext cx="554040" cy="792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27040" y="4565520"/>
            <a:ext cx="451080" cy="64620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09960" y="2511360"/>
            <a:ext cx="480960" cy="944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09960" y="3273480"/>
            <a:ext cx="577800" cy="834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09960" y="3803760"/>
            <a:ext cx="480960" cy="9507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5410080" cy="6094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Hola Sead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quiero ir a la cuidad contigo                                                                        Ay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36880" y="4492800"/>
            <a:ext cx="650880" cy="9442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438280"/>
            <a:ext cx="5486400" cy="7621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uenos días Aysha </a:t>
            </a:r>
            <a:r>
              <a:rPr b="0" lang="en-US" sz="900" spc="-1" strike="noStrike">
                <a:solidFill>
                  <a:srgbClr val="343434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43434"/>
                </a:solidFill>
                <a:latin typeface="Arial"/>
              </a:rPr>
              <a:t>yo estoy muy energia,¿ tu quiéres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ir a la cuidad?                                              Sead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36880" y="5175360"/>
            <a:ext cx="474480" cy="9507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4240" y="6016680"/>
            <a:ext cx="650880" cy="944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Dónde están mis amigo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3T14:43:53Z</dcterms:created>
  <dc:creator>FriscoISD</dc:creator>
  <dc:description/>
  <dc:language>en-US</dc:language>
  <cp:lastModifiedBy>NYCDOE</cp:lastModifiedBy>
  <dcterms:modified xsi:type="dcterms:W3CDTF">2012-12-03T15:01:44Z</dcterms:modified>
  <cp:revision>102</cp:revision>
  <dc:subject/>
  <dc:title>Profile</dc:title>
</cp:coreProperties>
</file>